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92BA-2798-48A4-8446-A7544099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5A8-F966-4104-853C-748F419360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 verb, "Itadaku"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いただく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 Japanese means polite way of saying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“eat” or “receive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o Itadakimasu expresses thanks for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nature’s gift of foo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B82E6-DDBC-4743-B679-BF3C5A36DE8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word  GOCHISOU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ごちそう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ans ‘luxurious meal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ochisosama deshita’ expresses thanks for all people who are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connected with the foo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not only th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person who cooks meal,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but also the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ducers or farm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3F9B-0BF5-446A-A68D-59137F8842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MIMASEN is a very useful expression in Japanese.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means, </a:t>
            </a:r>
            <a:r>
              <a:rPr b="0" lang="en-GB" sz="14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“excuse me”, “sorry,” “pardon” and “thank you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ses 1 and 2, it means ‘Excuse me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ses 3-5 , it means ‘Sorry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se 6 it means ‘Thank you’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can simply say just ‘SUMIMASEN’  in all of these situation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5 Greeting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スライド番号プレースホルダー 4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3374-4F54-4F9D-B709-4B3F2F51A0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969-75F8-444D-8E3E-285E909D1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C4DB-7A9D-4E18-B588-C0C86E83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64E8-F072-46A8-80DD-287B06504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CB6-DDB0-4FEE-9660-2511D7D9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AFE-F35B-4106-8375-64D0C2CC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0EB8-AF50-44E4-92BA-C6C62EE3F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03F6-25DE-45AE-95CA-BA61EA64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A56-C808-4165-8DC1-2DFE093C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03E8-3E71-4D43-8318-C5044C68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432D-813E-4F47-8EA3-DAAAEDBB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4E6C-42F8-4ACF-A76C-E50536B2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4531-C218-427A-9238-938FCDA1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3F17-A916-4F16-880C-F1868CD26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More Useful Expre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s learn more useful phras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539640" y="1197000"/>
            <a:ext cx="8064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st Japanese people say a particular phrase before and after meals. It is considered good man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se expressions show appreciation for the food and the person who cooked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ven though they are simple expressions, isn’t it nice to think about appreciation of f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et’s try to learn these phrases n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468360" y="4381560"/>
            <a:ext cx="3240000" cy="200016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74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What to say at me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5219640" y="4154400"/>
            <a:ext cx="2979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7400" y="1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Phras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 before you eat meal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  <a:ea typeface="Arial"/>
              </a:rPr>
              <a:t>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TADAKIMAS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https://minnanokyozai.jp/kyozai/material/IUM00201/ium00201.gif"/>
          <p:cNvPicPr/>
          <p:nvPr/>
        </p:nvPicPr>
        <p:blipFill>
          <a:blip r:embed="rId1"/>
          <a:stretch/>
        </p:blipFill>
        <p:spPr>
          <a:xfrm>
            <a:off x="1836720" y="1984320"/>
            <a:ext cx="5334120" cy="386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2627280" y="1270080"/>
            <a:ext cx="3753000" cy="718920"/>
          </a:xfrm>
          <a:prstGeom prst="rect">
            <a:avLst/>
          </a:prstGeom>
          <a:ln w="0">
            <a:noFill/>
          </a:ln>
        </p:spPr>
      </p:pic>
      <p:sp>
        <p:nvSpPr>
          <p:cNvPr id="57" name="テキスト ボックス 1"/>
          <p:cNvSpPr/>
          <p:nvPr/>
        </p:nvSpPr>
        <p:spPr>
          <a:xfrm>
            <a:off x="108000" y="609300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verb, "Itadaku"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いただく 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in Japanese means polite way of saying “eat” or “receive.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So Itadakimasu expresses thanks for nature’s gift of foo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14040"/>
            <a:ext cx="7772400" cy="125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Phrase after 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Arial"/>
              </a:rPr>
              <a:t>you eat mea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CHISŌSAMA (DESHIT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1332000" y="1341360"/>
            <a:ext cx="6599160" cy="719280"/>
          </a:xfrm>
          <a:prstGeom prst="rect">
            <a:avLst/>
          </a:prstGeom>
          <a:ln w="0">
            <a:noFill/>
          </a:ln>
        </p:spPr>
      </p:pic>
      <p:grpSp>
        <p:nvGrpSpPr>
          <p:cNvPr id="60" name="グループ化 20"/>
          <p:cNvGrpSpPr/>
          <p:nvPr/>
        </p:nvGrpSpPr>
        <p:grpSpPr>
          <a:xfrm>
            <a:off x="1742760" y="1946160"/>
            <a:ext cx="5389920" cy="3600720"/>
            <a:chOff x="1742760" y="1946160"/>
            <a:chExt cx="5389920" cy="3600720"/>
          </a:xfrm>
        </p:grpSpPr>
        <p:pic>
          <p:nvPicPr>
            <p:cNvPr id="61" name="Picture 6" descr="https://minnanokyozai.jp/kyozai/material/IUM00134/ium00134.gif"/>
            <p:cNvPicPr/>
            <p:nvPr/>
          </p:nvPicPr>
          <p:blipFill>
            <a:blip r:embed="rId2"/>
            <a:stretch/>
          </p:blipFill>
          <p:spPr>
            <a:xfrm>
              <a:off x="2222280" y="1946160"/>
              <a:ext cx="4910400" cy="36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直線コネクタ 9"/>
            <p:cNvSpPr/>
            <p:nvPr/>
          </p:nvSpPr>
          <p:spPr>
            <a:xfrm flipH="1" flipV="1">
              <a:off x="2275920" y="3971880"/>
              <a:ext cx="663480" cy="61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直線コネクタ 11"/>
            <p:cNvSpPr/>
            <p:nvPr/>
          </p:nvSpPr>
          <p:spPr>
            <a:xfrm flipH="1">
              <a:off x="6186240" y="4048200"/>
              <a:ext cx="517320" cy="43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直線コネクタ 14"/>
            <p:cNvSpPr/>
            <p:nvPr/>
          </p:nvSpPr>
          <p:spPr>
            <a:xfrm flipH="1">
              <a:off x="1961640" y="5053320"/>
              <a:ext cx="711000" cy="68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直線コネクタ 17"/>
            <p:cNvSpPr/>
            <p:nvPr/>
          </p:nvSpPr>
          <p:spPr>
            <a:xfrm flipH="1">
              <a:off x="6277320" y="4710240"/>
              <a:ext cx="706320" cy="179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直線コネクタ 18"/>
            <p:cNvSpPr/>
            <p:nvPr/>
          </p:nvSpPr>
          <p:spPr>
            <a:xfrm flipH="1" flipV="1">
              <a:off x="1742760" y="4518000"/>
              <a:ext cx="998280" cy="24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直線コネクタ 21"/>
            <p:cNvSpPr/>
            <p:nvPr/>
          </p:nvSpPr>
          <p:spPr>
            <a:xfrm flipH="1" flipV="1">
              <a:off x="6389640" y="5288400"/>
              <a:ext cx="593640" cy="23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テキスト ボックス 1"/>
          <p:cNvSpPr/>
          <p:nvPr/>
        </p:nvSpPr>
        <p:spPr>
          <a:xfrm>
            <a:off x="447840" y="5913360"/>
            <a:ext cx="84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he word  GOCHISOU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ごちそう　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means ‘luxurious meal’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‘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Gochisosama deshita’ expresses thanks for all people who are connected with the food - not only the person who cooks meal, but also the producers or farmer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SUMIMASEN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30040" y="620640"/>
            <a:ext cx="2273400" cy="1944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3719520" y="765000"/>
            <a:ext cx="1789200" cy="2264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3"/>
          <a:stretch/>
        </p:blipFill>
        <p:spPr>
          <a:xfrm>
            <a:off x="-79200" y="2819520"/>
            <a:ext cx="3063600" cy="2394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/>
          <a:stretch/>
        </p:blipFill>
        <p:spPr>
          <a:xfrm>
            <a:off x="5819760" y="2055960"/>
            <a:ext cx="3351240" cy="2174760"/>
          </a:xfrm>
          <a:prstGeom prst="rect">
            <a:avLst/>
          </a:prstGeom>
          <a:ln w="0">
            <a:noFill/>
          </a:ln>
        </p:spPr>
      </p:pic>
      <p:sp>
        <p:nvSpPr>
          <p:cNvPr id="74" name="角丸四角形吹き出し 4"/>
          <p:cNvSpPr/>
          <p:nvPr/>
        </p:nvSpPr>
        <p:spPr>
          <a:xfrm>
            <a:off x="5742000" y="944640"/>
            <a:ext cx="638280" cy="647640"/>
          </a:xfrm>
          <a:prstGeom prst="wedgeRoundRectCallout">
            <a:avLst>
              <a:gd name="adj1" fmla="val -86972"/>
              <a:gd name="adj2" fmla="val -4171"/>
              <a:gd name="adj3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角丸四角形吹き出し 11"/>
          <p:cNvSpPr/>
          <p:nvPr/>
        </p:nvSpPr>
        <p:spPr>
          <a:xfrm>
            <a:off x="2462040" y="736560"/>
            <a:ext cx="638280" cy="649440"/>
          </a:xfrm>
          <a:prstGeom prst="wedgeRoundRectCallout">
            <a:avLst>
              <a:gd name="adj1" fmla="val -86972"/>
              <a:gd name="adj2" fmla="val -4171"/>
              <a:gd name="adj3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角丸四角形吹き出し 12"/>
          <p:cNvSpPr/>
          <p:nvPr/>
        </p:nvSpPr>
        <p:spPr>
          <a:xfrm>
            <a:off x="2346480" y="2495520"/>
            <a:ext cx="637920" cy="647640"/>
          </a:xfrm>
          <a:prstGeom prst="wedgeRoundRectCallout">
            <a:avLst>
              <a:gd name="adj1" fmla="val -7981"/>
              <a:gd name="adj2" fmla="val 88138"/>
              <a:gd name="adj3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角丸四角形吹き出し 13"/>
          <p:cNvSpPr/>
          <p:nvPr/>
        </p:nvSpPr>
        <p:spPr>
          <a:xfrm>
            <a:off x="8134200" y="1573200"/>
            <a:ext cx="638280" cy="647640"/>
          </a:xfrm>
          <a:prstGeom prst="wedgeRoundRectCallout">
            <a:avLst>
              <a:gd name="adj1" fmla="val -75949"/>
              <a:gd name="adj2" fmla="val 57847"/>
              <a:gd name="adj3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5700600" y="4378320"/>
            <a:ext cx="2862360" cy="1940040"/>
          </a:xfrm>
          <a:prstGeom prst="rect">
            <a:avLst/>
          </a:prstGeom>
          <a:ln w="0">
            <a:noFill/>
          </a:ln>
        </p:spPr>
      </p:pic>
      <p:sp>
        <p:nvSpPr>
          <p:cNvPr id="79" name="角丸四角形吹き出し 18"/>
          <p:cNvSpPr/>
          <p:nvPr/>
        </p:nvSpPr>
        <p:spPr>
          <a:xfrm rot="7939200">
            <a:off x="8452440" y="4350600"/>
            <a:ext cx="638280" cy="436320"/>
          </a:xfrm>
          <a:prstGeom prst="wedgeRoundRectCallout">
            <a:avLst>
              <a:gd name="adj1" fmla="val 67245"/>
              <a:gd name="adj2" fmla="val 42078"/>
              <a:gd name="adj3" fmla="val 16667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テキスト ボックス 5"/>
          <p:cNvSpPr/>
          <p:nvPr/>
        </p:nvSpPr>
        <p:spPr>
          <a:xfrm>
            <a:off x="7164360" y="217440"/>
            <a:ext cx="1979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UMIMASEN is a very  useful expression in Japanese. It means, “excuse me”, “sorry,” “pardon” and “thank you!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グループ化 7"/>
          <p:cNvGrpSpPr/>
          <p:nvPr/>
        </p:nvGrpSpPr>
        <p:grpSpPr>
          <a:xfrm>
            <a:off x="706320" y="2630520"/>
            <a:ext cx="4956120" cy="3789360"/>
            <a:chOff x="706320" y="2630520"/>
            <a:chExt cx="4956120" cy="3789360"/>
          </a:xfrm>
        </p:grpSpPr>
        <p:sp>
          <p:nvSpPr>
            <p:cNvPr id="82" name="角丸四角形吹き出し 14"/>
            <p:cNvSpPr/>
            <p:nvPr/>
          </p:nvSpPr>
          <p:spPr>
            <a:xfrm>
              <a:off x="4643280" y="4951440"/>
              <a:ext cx="637920" cy="647640"/>
            </a:xfrm>
            <a:prstGeom prst="wedgeRoundRectCallout">
              <a:avLst>
                <a:gd name="adj1" fmla="val -124212"/>
                <a:gd name="adj2" fmla="val 10523"/>
                <a:gd name="adj3" fmla="val 16667"/>
              </a:avLst>
            </a:prstGeom>
            <a:solidFill>
              <a:srgbClr val="00cc99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グループ化 5"/>
            <p:cNvGrpSpPr/>
            <p:nvPr/>
          </p:nvGrpSpPr>
          <p:grpSpPr>
            <a:xfrm>
              <a:off x="706320" y="2630520"/>
              <a:ext cx="4956120" cy="3789360"/>
              <a:chOff x="706320" y="2630520"/>
              <a:chExt cx="4956120" cy="3789360"/>
            </a:xfrm>
          </p:grpSpPr>
          <p:grpSp>
            <p:nvGrpSpPr>
              <p:cNvPr id="84" name="グループ化 1"/>
              <p:cNvGrpSpPr/>
              <p:nvPr/>
            </p:nvGrpSpPr>
            <p:grpSpPr>
              <a:xfrm>
                <a:off x="2909880" y="2630520"/>
                <a:ext cx="2752560" cy="2141640"/>
                <a:chOff x="2909880" y="2630520"/>
                <a:chExt cx="2752560" cy="2141640"/>
              </a:xfrm>
            </p:grpSpPr>
            <p:pic>
              <p:nvPicPr>
                <p:cNvPr id="85" name="Picture 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3061440" y="3125880"/>
                  <a:ext cx="2298600" cy="110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雲形吹き出し 3"/>
                <p:cNvSpPr/>
                <p:nvPr/>
              </p:nvSpPr>
              <p:spPr>
                <a:xfrm>
                  <a:off x="2909880" y="2630520"/>
                  <a:ext cx="2752560" cy="2141640"/>
                </a:xfrm>
                <a:prstGeom prst="cloudCallout">
                  <a:avLst>
                    <a:gd name="adj1" fmla="val -44925"/>
                    <a:gd name="adj2" fmla="val 48611"/>
                  </a:avLst>
                </a:prstGeom>
                <a:noFill/>
                <a:ln w="25560">
                  <a:solidFill>
                    <a:srgbClr val="00956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7" name="Picture 18" descr=""/>
              <p:cNvPicPr/>
              <p:nvPr/>
            </p:nvPicPr>
            <p:blipFill>
              <a:blip r:embed="rId7"/>
              <a:stretch/>
            </p:blipFill>
            <p:spPr>
              <a:xfrm>
                <a:off x="706320" y="5129280"/>
                <a:ext cx="2143080" cy="12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四角形吹き出し 6"/>
              <p:cNvSpPr/>
              <p:nvPr/>
            </p:nvSpPr>
            <p:spPr>
              <a:xfrm>
                <a:off x="2849400" y="4772160"/>
                <a:ext cx="2658960" cy="1152360"/>
              </a:xfrm>
              <a:prstGeom prst="wedgeRectCallout">
                <a:avLst>
                  <a:gd name="adj1" fmla="val -64282"/>
                  <a:gd name="adj2" fmla="val 52203"/>
                </a:avLst>
              </a:prstGeom>
              <a:noFill/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9" name="Picture 5" descr=""/>
            <p:cNvPicPr/>
            <p:nvPr/>
          </p:nvPicPr>
          <p:blipFill>
            <a:blip r:embed="rId8"/>
            <a:stretch/>
          </p:blipFill>
          <p:spPr>
            <a:xfrm>
              <a:off x="3100320" y="4832280"/>
              <a:ext cx="966600" cy="98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4520" y="-302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Times New Roman"/>
              </a:rPr>
              <a:t>REVIEW ALL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4200" y="1120680"/>
            <a:ext cx="3022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d mor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コンテンツ プレースホルダー 2"/>
          <p:cNvSpPr/>
          <p:nvPr/>
        </p:nvSpPr>
        <p:spPr>
          <a:xfrm>
            <a:off x="4608360" y="1160640"/>
            <a:ext cx="41767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od morning! (Pol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コンテンツ プレースホルダー 2"/>
          <p:cNvSpPr/>
          <p:nvPr/>
        </p:nvSpPr>
        <p:spPr>
          <a:xfrm>
            <a:off x="3262320" y="1809720"/>
            <a:ext cx="1380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ello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コンテンツ プレースホルダー 2"/>
          <p:cNvSpPr/>
          <p:nvPr/>
        </p:nvSpPr>
        <p:spPr>
          <a:xfrm>
            <a:off x="1135080" y="2432160"/>
            <a:ext cx="13539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ye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コンテンツ プレースホルダー 2"/>
          <p:cNvSpPr/>
          <p:nvPr/>
        </p:nvSpPr>
        <p:spPr>
          <a:xfrm>
            <a:off x="4968720" y="2276640"/>
            <a:ext cx="360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e you tomorrow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コンテンツ プレースホルダー 2"/>
          <p:cNvSpPr/>
          <p:nvPr/>
        </p:nvSpPr>
        <p:spPr>
          <a:xfrm>
            <a:off x="843120" y="3459240"/>
            <a:ext cx="22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ank you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コンテンツ プレースホルダー 2"/>
          <p:cNvSpPr/>
          <p:nvPr/>
        </p:nvSpPr>
        <p:spPr>
          <a:xfrm>
            <a:off x="3384720" y="3459240"/>
            <a:ext cx="38163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ank you! (polit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コンテンツ プレースホルダー 2"/>
          <p:cNvSpPr/>
          <p:nvPr/>
        </p:nvSpPr>
        <p:spPr>
          <a:xfrm>
            <a:off x="380880" y="465300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eeting before me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コンテンツ プレースホルダー 2"/>
          <p:cNvSpPr/>
          <p:nvPr/>
        </p:nvSpPr>
        <p:spPr>
          <a:xfrm>
            <a:off x="4859280" y="4776840"/>
            <a:ext cx="4140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reeting after me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コンテンツ プレースホルダー 2"/>
          <p:cNvSpPr/>
          <p:nvPr/>
        </p:nvSpPr>
        <p:spPr>
          <a:xfrm>
            <a:off x="1847880" y="5950080"/>
            <a:ext cx="71517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xcuse me, sorry, pardon, thank you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26:01Z</dcterms:created>
  <dc:creator>h.tanaka</dc:creator>
  <dc:description/>
  <dc:language>en-US</dc:language>
  <cp:lastModifiedBy>Hiroko Tanaka</cp:lastModifiedBy>
  <cp:lastPrinted>2014-07-31T16:23:19Z</cp:lastPrinted>
  <dcterms:modified xsi:type="dcterms:W3CDTF">2014-07-31T16:23:21Z</dcterms:modified>
  <cp:revision>68</cp:revision>
  <dc:subject/>
  <dc:title>Greeting</dc:title>
</cp:coreProperties>
</file>